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15A00-7B4A-4515-8006-3E1A87281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5A989-A7EB-4FA6-A061-D37CBEB5E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9358E-6CC8-4CB2-8E87-68ABC4D26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CF05C-04D1-48A8-ADC0-15EF7EC9D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5CB69-F777-4BBE-BBED-25DA6CF2D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CB375-15E7-4762-9623-DB6FA922E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720F7-36BD-499E-BADE-6D606CB2F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32865-8EB7-4500-8A45-294A4542F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3A4AA-22AF-4FA2-A4C4-E9EFB8D1F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3BEA5-536D-4544-98A9-46FDF701D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BB104-C82A-4B7A-9D8F-12307F45D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00DA0-213D-4B52-937E-FCBF98AD3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C2278-03AC-4FDC-8588-47E8B71CF7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hiwtc.com/photo/products/15/00/72/7230.jpg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2514240" y="1294920"/>
            <a:ext cx="3809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Gran Apertura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590920" y="228600"/>
            <a:ext cx="35049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800000"/>
                    </a:gs>
                  </a:gsLst>
                  <a:lin ang="108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Cine Increíble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0000"/>
                  </a:gs>
                  <a:gs pos="100000">
                    <a:srgbClr val="800000"/>
                  </a:gs>
                </a:gsLst>
                <a:lin ang="108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3" name=""/>
          <p:cNvSpPr/>
          <p:nvPr/>
        </p:nvSpPr>
        <p:spPr>
          <a:xfrm>
            <a:off x="380880" y="1981080"/>
            <a:ext cx="2971800" cy="29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0000"/>
                </a:solidFill>
                <a:latin typeface="Arial"/>
              </a:rPr>
              <a:t>Que: New Years E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0000"/>
                </a:solidFill>
                <a:latin typeface="Arial"/>
              </a:rPr>
              <a:t>Cuando: </a:t>
            </a:r>
            <a:r>
              <a:rPr b="0" lang="es-ES" sz="1600" spc="-1" strike="noStrike">
                <a:solidFill>
                  <a:srgbClr val="800000"/>
                </a:solidFill>
                <a:latin typeface="Arial"/>
              </a:rPr>
              <a:t>28 de diciembre a las 6:3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0000"/>
                </a:solidFill>
                <a:latin typeface="Arial"/>
              </a:rPr>
              <a:t>Donde: </a:t>
            </a:r>
            <a:r>
              <a:rPr b="0" lang="en" sz="1600" spc="-1" strike="noStrike">
                <a:solidFill>
                  <a:srgbClr val="800000"/>
                </a:solidFill>
                <a:latin typeface="Arial"/>
              </a:rPr>
              <a:t>22 Flutie Pass, Framingham, M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0000"/>
                </a:solidFill>
                <a:latin typeface="Arial"/>
              </a:rPr>
              <a:t>Las entradas: Dos por uno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0000"/>
                </a:solidFill>
                <a:latin typeface="Arial"/>
              </a:rPr>
              <a:t>$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Cinema Seati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58000" y="152280"/>
            <a:ext cx="1943280" cy="14875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304920" y="4800600"/>
            <a:ext cx="2400120" cy="15764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886200" y="1981080"/>
            <a:ext cx="36576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 película es New Years Eve. las entradas son $12. Los actores son Jessica Sarah Parker, Jesscia Biel y Ashton Kutcher.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La pantalla es grande, y clara. El tiene subtítulos y está en la versión original.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s butacas son cómodos.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ienen las palomitas de maíz, la soda, y los dulces. Hay una línea muy larga porque es la apertura grande. Hay un metro que usted puede toma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019920" y="601992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ye Sin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22T18:44:58Z</dcterms:created>
  <dc:creator>sinosfay</dc:creator>
  <dc:description/>
  <dc:language>en-US</dc:language>
  <cp:lastModifiedBy>sinosfay</cp:lastModifiedBy>
  <dcterms:modified xsi:type="dcterms:W3CDTF">2011-12-22T19:08:25Z</dcterms:modified>
  <cp:revision>5</cp:revision>
  <dc:subject/>
  <dc:title>Slide 1</dc:title>
</cp:coreProperties>
</file>